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27.png" ContentType="image/png"/>
  <Override PartName="/ppt/media/image4.png" ContentType="image/png"/>
  <Override PartName="/ppt/media/image31.pct" ContentType="image/x-pict"/>
  <Override PartName="/ppt/media/image34.png" ContentType="image/png"/>
  <Override PartName="/ppt/media/image11.png" ContentType="image/png"/>
  <Override PartName="/ppt/media/image7.pct" ContentType="image/x-pict"/>
  <Override PartName="/ppt/media/image6.png" ContentType="image/png"/>
  <Override PartName="/ppt/media/image33.pct" ContentType="image/x-pict"/>
  <Override PartName="/ppt/media/image24.png" ContentType="image/png"/>
  <Override PartName="/ppt/media/image8.png" ContentType="image/png"/>
  <Override PartName="/ppt/media/image10.pct" ContentType="image/x-pict"/>
  <Override PartName="/ppt/media/image25.png" ContentType="image/png"/>
  <Override PartName="/ppt/media/image13.pct" ContentType="image/x-pict"/>
  <Override PartName="/ppt/media/image30.png" ContentType="image/png"/>
  <Override PartName="/ppt/media/image32.pct" ContentType="image/x-pict"/>
  <Override PartName="/ppt/media/image5.png" ContentType="image/png"/>
  <Override PartName="/ppt/media/image28.png" ContentType="image/png"/>
  <Override PartName="/ppt/media/image29.jpeg" ContentType="image/jpeg"/>
  <Override PartName="/ppt/media/image3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2.pct" ContentType="image/x-pict"/>
  <Override PartName="/ppt/media/image15.png" ContentType="image/png"/>
  <Override PartName="/ppt/media/image18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C65BF-7BCB-4F90-B5F9-F4038D1E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1AD3C-7A17-4B29-AA37-742FB6A3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A45B4-F9FA-4023-956B-FC326633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E35BC-02B5-4C1F-A8F1-3055BACD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9944-CB13-45ED-9E24-99932AC7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3E5A-6C56-4217-B7A7-A35E01D6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F0D5-7D0D-4DCC-80CC-B260DDFB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4A73-339A-46CA-802A-D72835B9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70CA-5638-44C9-834B-2499DCCF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C9BD-93CB-4988-85E6-29A767D1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6F4C-DCD1-4951-8E7F-A2219FF9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27FA3-5BFD-48E9-B7A6-9518C1B5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14358-4B9B-4E01-B8D3-294192CF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2183-75FA-45AC-BF07-B8F0ED33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AB02-28DE-4F74-A8C7-940BE1AE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DFD6-71EC-4F2C-9A7C-FD98B7BA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4500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141160" y="160020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4884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4500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141160" y="3964320"/>
            <a:ext cx="22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F26E-EC9D-4EDD-8C34-481772CE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54FFA-BD0E-4F42-9E05-C7BCACF1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66FD1-8FD1-4083-9719-A1811539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5FFCB-CD17-4DA5-8FBB-4F7E9063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8840" y="523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CB218-7A8C-4F64-BDD1-15FB3C40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49AE1-EC0C-422F-99B4-BC4278B6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80160" y="396432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833B9-C62A-4D64-9CE3-69FEF942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8840" y="492120"/>
            <a:ext cx="7086600" cy="79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980160" y="1600200"/>
            <a:ext cx="345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8840" y="3964320"/>
            <a:ext cx="708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6EB70-BAB5-4A4C-9410-6F51704B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54160" indent="-25416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19840" indent="-2656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774360" indent="-25416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28520" indent="-25416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283040" indent="-25416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283040" indent="-25416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283040" indent="-25416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71F2A-2774-4B23-8713-6667863CCAAA}" type="datetime">
              <a:rPr b="0" lang="en-US" sz="2400" spc="-1" strike="noStrike">
                <a:solidFill>
                  <a:srgbClr val="a8aeb5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79142C-76AE-4EBD-835F-5E7A2FA45414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bevelDivider.png"/>
          <p:cNvPicPr/>
          <p:nvPr/>
        </p:nvPicPr>
        <p:blipFill>
          <a:blip r:embed="rId3"/>
          <a:stretch/>
        </p:blipFill>
        <p:spPr>
          <a:xfrm>
            <a:off x="7772400" y="0"/>
            <a:ext cx="1062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7848720" y="0"/>
            <a:ext cx="1295280" cy="6858000"/>
          </a:xfrm>
          <a:prstGeom prst="rect">
            <a:avLst/>
          </a:prstGeom>
          <a:gradFill rotWithShape="0">
            <a:gsLst>
              <a:gs pos="0">
                <a:srgbClr val="d9d9d9">
                  <a:alpha val="20000"/>
                </a:srgbClr>
              </a:gs>
              <a:gs pos="100000">
                <a:srgbClr val="7f7f7f">
                  <a:alpha val="20000"/>
                </a:srgbClr>
              </a:gs>
            </a:gsLst>
            <a:lin ang="107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44" name="Picture 9" descr="titleSlideBevel.png"/>
          <p:cNvPicPr/>
          <p:nvPr/>
        </p:nvPicPr>
        <p:blipFill>
          <a:blip r:embed="rId4"/>
          <a:stretch/>
        </p:blipFill>
        <p:spPr>
          <a:xfrm>
            <a:off x="361800" y="4761000"/>
            <a:ext cx="5121360" cy="17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lick to edit the title text format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54160" indent="-25416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lick to edit the outline text format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19840" indent="-26568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con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2" marL="774360" indent="-25416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Third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3" marL="1028520" indent="-254160">
              <a:spcBef>
                <a:spcPts val="2401"/>
              </a:spcBef>
              <a:buClr>
                <a:srgbClr val="7d8691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our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4" marL="1283040" indent="-25416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Fif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5" marL="1283040" indent="-25416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ix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6" marL="1283040" indent="-254160">
              <a:spcBef>
                <a:spcPts val="24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Seventh Outline Level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62520" y="4694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38ED7-739D-4049-AF87-9FE31B8964CC}" type="datetime">
              <a:rPr b="0" lang="en-US" sz="2400" spc="-1" strike="noStrike">
                <a:solidFill>
                  <a:srgbClr val="a8aeb5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5770440" y="3208320"/>
            <a:ext cx="51055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040240" y="6181200"/>
            <a:ext cx="808200" cy="36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4500" spc="-1" strike="noStrike">
                <a:solidFill>
                  <a:srgbClr val="a8aeb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F6388-C9BE-4DE5-87C9-06400FF96CEB}" type="slidenum">
              <a:rPr b="0" lang="en-US" sz="4500" spc="-1" strike="noStrike">
                <a:solidFill>
                  <a:srgbClr val="a8aeb5"/>
                </a:solidFill>
                <a:latin typeface="Times New Roman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30.png"/><Relationship Id="rId4" Type="http://schemas.openxmlformats.org/officeDocument/2006/relationships/image" Target="../media/image31.pct"/><Relationship Id="rId5" Type="http://schemas.openxmlformats.org/officeDocument/2006/relationships/image" Target="../media/image32.pct"/><Relationship Id="rId6" Type="http://schemas.openxmlformats.org/officeDocument/2006/relationships/image" Target="../media/image33.pct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ct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ct"/><Relationship Id="rId4" Type="http://schemas.openxmlformats.org/officeDocument/2006/relationships/image" Target="../media/image12.pct"/><Relationship Id="rId5" Type="http://schemas.openxmlformats.org/officeDocument/2006/relationships/image" Target="../media/image12.pct"/><Relationship Id="rId6" Type="http://schemas.openxmlformats.org/officeDocument/2006/relationships/image" Target="../media/image12.pct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9d9d4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360360" y="2603520"/>
            <a:ext cx="51325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inversion"/>
          <p:cNvPicPr/>
          <p:nvPr/>
        </p:nvPicPr>
        <p:blipFill>
          <a:blip r:embed="rId4"/>
          <a:srcRect l="0" t="8729" r="0" b="50006"/>
          <a:stretch/>
        </p:blipFill>
        <p:spPr>
          <a:xfrm>
            <a:off x="533520" y="3048120"/>
            <a:ext cx="78483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15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http://dwb.unl.edu/Teacher/NSF/C08/C08Links/library.thinkquest.org/18258/media/translocation.gif"/>
          <p:cNvPicPr/>
          <p:nvPr/>
        </p:nvPicPr>
        <p:blipFill>
          <a:blip r:embed="rId4"/>
          <a:stretch/>
        </p:blipFill>
        <p:spPr>
          <a:xfrm>
            <a:off x="990720" y="3048120"/>
            <a:ext cx="6629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18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hromosomaldeletion"/>
          <p:cNvPicPr/>
          <p:nvPr/>
        </p:nvPicPr>
        <p:blipFill>
          <a:blip r:embed="rId4"/>
          <a:srcRect l="0" t="0" r="0" b="8356"/>
          <a:stretch/>
        </p:blipFill>
        <p:spPr>
          <a:xfrm>
            <a:off x="341280" y="2895480"/>
            <a:ext cx="8269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2"/>
          <a:stretch/>
        </p:blipFill>
        <p:spPr>
          <a:xfrm>
            <a:off x="349200" y="0"/>
            <a:ext cx="7086600" cy="9144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48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Insertion (Duplication) - occurs when a gene sequence is repeated 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3"/>
          <a:stretch/>
        </p:blipFill>
        <p:spPr>
          <a:xfrm>
            <a:off x="533520" y="2057400"/>
            <a:ext cx="6902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2"/>
          <a:stretch/>
        </p:blipFill>
        <p:spPr>
          <a:xfrm>
            <a:off x="341280" y="152280"/>
            <a:ext cx="7102440" cy="990720"/>
          </a:xfrm>
          <a:prstGeom prst="rect">
            <a:avLst/>
          </a:prstGeom>
          <a:ln w="0">
            <a:noFill/>
          </a:ln>
        </p:spPr>
      </p:pic>
      <p:pic>
        <p:nvPicPr>
          <p:cNvPr id="124" name="Content Placeholder 2" descr=""/>
          <p:cNvPicPr/>
          <p:nvPr/>
        </p:nvPicPr>
        <p:blipFill>
          <a:blip r:embed="rId3"/>
          <a:stretch/>
        </p:blipFill>
        <p:spPr>
          <a:xfrm>
            <a:off x="341280" y="1447920"/>
            <a:ext cx="7102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ttp://www.uic.edu/classes/bios/bios100/lectf03am/nondisjunction.jpg"/>
          <p:cNvPicPr/>
          <p:nvPr/>
        </p:nvPicPr>
        <p:blipFill>
          <a:blip r:embed="rId2"/>
          <a:stretch/>
        </p:blipFill>
        <p:spPr>
          <a:xfrm>
            <a:off x="152280" y="304920"/>
            <a:ext cx="86868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27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724280" y="2666880"/>
            <a:ext cx="3962520" cy="3886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341280" y="3581280"/>
            <a:ext cx="1905120" cy="18669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2590920" y="3581280"/>
            <a:ext cx="19047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2"/>
          <a:stretch/>
        </p:blipFill>
        <p:spPr>
          <a:xfrm>
            <a:off x="341280" y="152280"/>
            <a:ext cx="7102440" cy="685800"/>
          </a:xfrm>
          <a:prstGeom prst="rect">
            <a:avLst/>
          </a:prstGeom>
          <a:ln w="0">
            <a:noFill/>
          </a:ln>
        </p:spPr>
      </p:pic>
      <p:pic>
        <p:nvPicPr>
          <p:cNvPr id="88" name="Content Placeholder 2" descr=""/>
          <p:cNvPicPr/>
          <p:nvPr/>
        </p:nvPicPr>
        <p:blipFill>
          <a:blip r:embed="rId3"/>
          <a:stretch/>
        </p:blipFill>
        <p:spPr>
          <a:xfrm>
            <a:off x="341280" y="1066680"/>
            <a:ext cx="7102440" cy="5065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41280" y="3084480"/>
            <a:ext cx="84978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91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09480" y="28954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2"/>
          <a:stretch/>
        </p:blipFill>
        <p:spPr>
          <a:xfrm>
            <a:off x="349200" y="0"/>
            <a:ext cx="7086600" cy="838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85800" y="5257800"/>
            <a:ext cx="1905120" cy="1434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590920" y="5257800"/>
            <a:ext cx="1904760" cy="1434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495680" y="5257800"/>
            <a:ext cx="1905120" cy="1434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400800" y="5257800"/>
            <a:ext cx="1905120" cy="14349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48840" y="837720"/>
            <a:ext cx="7086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Any change in the DNA sequence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marL="282600" indent="-28260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Can have positive effects, negative effects, but usually has no effect (neutral)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marL="282600" indent="-28260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Mutations that occur on sex cells may be passed on to offspring; mutations that occur in body cells cannot be passed on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marL="282600" indent="-28260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Mutations happen regularly; many are repaired by enzymes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marL="282600"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633840" y="339840"/>
            <a:ext cx="3147840" cy="1844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Mutagen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8840" y="2361960"/>
            <a:ext cx="7086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43000" indent="-243000">
              <a:lnSpc>
                <a:spcPct val="90000"/>
              </a:lnSpc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A substance or condition that causes an increase in the rate of mutation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marL="2430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 </a:t>
            </a: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Ex:  errors in replication, transcription, cell      division or by external agents such as: viruses, extreme high temperatures, industrial chemicals, pesticide, cigarette smoke, food additives, radiation, UV light, etc.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marL="24300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     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2"/>
          <a:stretch/>
        </p:blipFill>
        <p:spPr>
          <a:xfrm>
            <a:off x="341280" y="0"/>
            <a:ext cx="7102440" cy="8380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2" descr=""/>
          <p:cNvPicPr/>
          <p:nvPr/>
        </p:nvPicPr>
        <p:blipFill>
          <a:blip r:embed="rId3"/>
          <a:stretch/>
        </p:blipFill>
        <p:spPr>
          <a:xfrm>
            <a:off x="0" y="838080"/>
            <a:ext cx="6553080" cy="5294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www.defiers.com/sc.jpg"/>
          <p:cNvPicPr/>
          <p:nvPr/>
        </p:nvPicPr>
        <p:blipFill>
          <a:blip r:embed="rId4"/>
          <a:stretch/>
        </p:blipFill>
        <p:spPr>
          <a:xfrm>
            <a:off x="6248520" y="1905120"/>
            <a:ext cx="2838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2"/>
          <a:stretch/>
        </p:blipFill>
        <p:spPr>
          <a:xfrm>
            <a:off x="341280" y="517680"/>
            <a:ext cx="7102440" cy="744480"/>
          </a:xfrm>
          <a:prstGeom prst="rect">
            <a:avLst/>
          </a:prstGeom>
          <a:ln w="0">
            <a:noFill/>
          </a:ln>
        </p:spPr>
      </p:pic>
      <p:pic>
        <p:nvPicPr>
          <p:cNvPr id="106" name="Content Placeholder 2" descr=""/>
          <p:cNvPicPr/>
          <p:nvPr/>
        </p:nvPicPr>
        <p:blipFill>
          <a:blip r:embed="rId3"/>
          <a:stretch/>
        </p:blipFill>
        <p:spPr>
          <a:xfrm>
            <a:off x="341280" y="1596960"/>
            <a:ext cx="71024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ttp://members.cox.net/amgough/Mutation_frameshift-01_03_03d.jpg"/>
          <p:cNvPicPr/>
          <p:nvPr/>
        </p:nvPicPr>
        <p:blipFill>
          <a:blip r:embed="rId2"/>
          <a:stretch/>
        </p:blipFill>
        <p:spPr>
          <a:xfrm>
            <a:off x="380880" y="533520"/>
            <a:ext cx="838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8840" y="523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63b"/>
                </a:solidFill>
                <a:latin typeface="Eurostile"/>
              </a:rPr>
              <a:t>Chromosome mutations</a:t>
            </a:r>
            <a:endParaRPr b="0" lang="en-US" sz="4600" spc="-1" strike="noStrike">
              <a:solidFill>
                <a:srgbClr val="32363b"/>
              </a:solidFill>
              <a:latin typeface="Eurosti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8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401"/>
              </a:spcBef>
              <a:buClr>
                <a:srgbClr val="32363b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Eurostile"/>
              </a:rPr>
              <a:t>May involve:</a:t>
            </a:r>
            <a:endParaRPr b="0" lang="en-US" sz="2600" spc="-1" strike="noStrike">
              <a:solidFill>
                <a:srgbClr val="595959"/>
              </a:solidFill>
              <a:latin typeface="Eurostile"/>
            </a:endParaRPr>
          </a:p>
          <a:p>
            <a:pPr lvl="1"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Eurostile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Eurostile"/>
              </a:rPr>
              <a:t>-changing the structure of a chromosome</a:t>
            </a:r>
            <a:endParaRPr b="0" lang="en-US" sz="2400" spc="-1" strike="noStrike">
              <a:solidFill>
                <a:srgbClr val="595959"/>
              </a:solidFill>
              <a:latin typeface="Eurostile"/>
            </a:endParaRPr>
          </a:p>
          <a:p>
            <a:pPr lvl="1"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Eurostile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Eurostile"/>
              </a:rPr>
              <a:t>-the loss or gain of part of a chromosome</a:t>
            </a:r>
            <a:endParaRPr b="0" lang="en-US" sz="2400" spc="-1" strike="noStrike">
              <a:solidFill>
                <a:srgbClr val="595959"/>
              </a:solidFill>
              <a:latin typeface="Eurostile"/>
            </a:endParaRPr>
          </a:p>
        </p:txBody>
      </p:sp>
      <p:pic>
        <p:nvPicPr>
          <p:cNvPr id="110" name="Picture 5" descr="chromosome"/>
          <p:cNvPicPr/>
          <p:nvPr/>
        </p:nvPicPr>
        <p:blipFill>
          <a:blip r:embed="rId2"/>
          <a:srcRect l="0" t="0" r="31044" b="0"/>
          <a:stretch/>
        </p:blipFill>
        <p:spPr>
          <a:xfrm>
            <a:off x="6858000" y="685800"/>
            <a:ext cx="20574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5:04:29Z</dcterms:created>
  <dc:creator>Keith or Sherri Holmgren</dc:creator>
  <dc:description/>
  <dc:language>en-US</dc:language>
  <cp:lastModifiedBy>Clayton Johns</cp:lastModifiedBy>
  <dcterms:modified xsi:type="dcterms:W3CDTF">2010-02-02T15:48:41Z</dcterms:modified>
  <cp:revision>8</cp:revision>
  <dc:subject/>
  <dc:title>Genes, Chromosomes, &amp; Genetic Change</dc:title>
</cp:coreProperties>
</file>